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BC11-8F19-4B38-9E6A-83D39C03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37B7-79A3-42E9-B85E-AC72CF0C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0A734-9FB6-4AB4-BDCC-B723B509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5DFBC-BC84-4E45-ACE1-5CF0A170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26D65-15E1-4DC3-A5F6-C83E6E88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93096-F3BC-4BAF-AAA8-A0134036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2AE92-DF86-47CD-B26A-3FA97ED5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F65F8-5743-4013-9809-6132C9AB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41E59-A4B5-4942-84DC-52BAAAC3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25BFB-C929-4C26-98E6-8B6F6CEB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08699-6439-4228-A1C6-2EBCEA6EB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0B9FD-81E8-40E7-92E6-964E04F8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386C-EFFB-4FEE-AB85-05EF0331E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52C58C-2CD5-4868-83BA-3A63F66F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EC5246-3BA6-43AA-AC40-15235E1B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276BC-DA16-4631-9BA5-4A8A1625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88964-CB6A-4A94-9F70-50E4BD0D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9BC4CA-7AB0-463C-BDCC-096A0FED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25A03-E8D3-4759-A81D-B3448019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B1F68-C304-4C46-BEA9-D1E57812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C7A4B-0D20-4895-9848-5C339128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ED142-990F-474F-96A0-4F7F03F9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7A4C1-C35A-405A-A978-B871F0AEC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3320-D4FE-446B-BB59-369AF2EB8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51870-2147-4C7F-B228-0E14103C8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8699F-98B7-4E3F-A97A-F84B7FD63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0B7B1-8A85-4E9C-AEA9-8CB977FE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1AEE7-36B7-47FF-B03C-64BF86AD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189E4-004B-436A-83E8-20AFCFC1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90391-5F69-49DE-9F08-381EC3B2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9E883-F81C-4184-AEA8-A309B917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F9E63-99A0-4D84-AF08-B392B450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9A2D2-AA1C-4C0C-BB06-44B722EC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2A4E7-3E49-43CC-B1BE-88BEAC92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BBF5-DBF0-4FD8-B7DF-2AD68652B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E47D5-6769-4CB7-80F5-9C888E4C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3C54A-521C-4F94-90A9-AB6CF91A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5EBFB-2914-44AA-8D60-50F76622E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A59B57-5443-43CC-BA3F-42AA1C7B6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DE0916-AFF5-4025-A3FA-5A1854D3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D5D2D-A6C2-4AE9-83EB-A2649DF3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79CCA-B40E-42AF-9A51-BC9ED1F7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E58BB-757C-47D8-971D-E5A07882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3032D-36ED-4843-AEC7-B0D1353B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E452F-15B1-4086-BA44-988AB3F5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DC09-04B7-4392-BD10-39A6608C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FF525-F503-4B04-990C-FFD21EDE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2B363-F5E7-4DAD-B44F-BCF66089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D1EAA5-7F4E-4031-91F8-30C71217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F41109-D311-4AB3-BAF0-E8F13DA59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A98C2-B87E-4AED-B241-BA5F186D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77207B-E183-4CA4-B8F9-00816B6F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524551-A375-46AC-8674-ACB33FB9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0D8C6B-C3F6-4FA6-843A-85B96C38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656023-B314-46D0-8A6F-793CECBB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6D7F37-A38F-4FB9-A95E-AD1B6D57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B4A5-D093-418E-90AD-759AB81B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66C0A7-687B-416C-9EFF-2B9B734B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84F4B6-F4FF-4B4F-A592-A1A5B2E1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5185A7-4422-4D38-8408-45195D54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41D071-FCBA-49CC-B143-420CAE38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1A2265-0117-4F6A-BA3B-C728C959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3EDECC-96B8-4ECE-AC98-0E1E38178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EB6954-C614-4E7C-872B-ED3CED7F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FC59E5-7CF6-434E-ACF8-7E9CE36A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B308B2-5CE5-4155-B3AD-2A61648C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C736B1-D145-49FD-B76E-5BBD86C7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1F8D-F033-4978-9A15-BEDECF63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E0C31C-EA28-4D62-B8AB-BBFC9DC5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027EE0-7BD3-4C72-A2A1-7A91DBBA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4DB487-C74D-444A-A9DE-2AA54B34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0A2C04-3853-4AAB-AC1C-44686DA5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52A636-BA28-4D65-8D78-B58C11FE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D5C810-B8CD-4A66-B78B-61F30D04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99042D-4E9A-4489-9965-FFF30435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085917-4F2A-4DBE-B3FB-4ABA0195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26AC29-ADB1-4A0B-9AC4-0EBB1DB8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2479E1-0DD6-44E1-9028-DC9F0988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7269-F778-4431-8382-48E1EDA5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C73487-B0F3-4707-8BAC-D939C94A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594522-B2E6-4F30-B653-5158AB04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A7FF77-1AC7-4FA8-8A07-6AC885F9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E22934-0672-4A6A-AD60-25050CA2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697647-1409-4A5A-B30F-DE02D91E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60089F-B099-4364-9705-21F1D674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922C9F-7136-4A36-975C-DB02FBE9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D0CB5C-2903-4D23-A0EA-E5C0AD6D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DB5AB2-5071-4DAD-A138-4B533653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AF30E5-239C-4E57-A47A-9CA868FC0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BCF2-C4E0-4236-A8EF-135F08C0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DCA6A6-B334-4A16-A74F-3CB1FAF9E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06FBE2-6903-40D5-9AC6-146F994B5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A56153-9672-4DD5-ACAF-1531FF89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458CC0-F6A7-42A0-996D-85C72870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ED7381-3B30-4208-8A68-DF39C1EB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7E01A4-59B4-4FAC-923F-D4BAA5EC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C89890-6D2C-4738-80A6-6B5FD45E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AC9A25-1A9D-4F37-870C-D9508F7D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068CA2-4BBA-40EB-85E5-D3190D97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CCA0B1-42BA-443E-BE75-0D56EC88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36FB-E8EC-440B-B6F7-A426A54B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CEC1D5-6BF9-4DD8-AE8A-9814DBBA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829AD6-63B3-4478-9ADF-15652C11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0CCE27-01F0-4349-91D2-AD536BC2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D2661D-4568-44DC-97F7-BAF6F138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6A6249-A982-4994-B9DC-8A578B70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B1C7F5-E1A0-4157-A402-FA575355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17B62C-B2C2-4A5F-954A-AA3F1852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685590-BEF4-4F16-8CF3-CF5105CD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0CA408-1D48-494A-8C66-97DC2E62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2BDF66-FDE8-426F-A386-8DCA013A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2D77-F562-45C4-A885-919D7625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B765-13CE-4D41-9ADB-38C7124C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FA52B8-17E5-4D3A-A197-CB92520D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D2F09F-E308-458E-840B-7177BB8A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F5A636-780C-41CA-AF2A-36317983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58DE6D-CD2E-455C-B724-D8A3404E0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140D70-DE2D-40C2-A129-C533C4B8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F13CAB-ADAE-456D-90A3-2A6EABE9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735ADE-E486-4C2B-AB55-FE065BF5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6CF56A-5F9B-470A-8FC0-466ED1C5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A0AA0E-4B4E-4832-857A-A72FF060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5FC914-BD28-41E9-A486-0997CE36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30B8-81CE-4319-83B8-A00F267B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819DCE-4FED-44BA-BFA7-AA32A518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2BDCF4-48D4-4B7B-B2CE-1D8233BA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A0D960-9642-4BC0-84AF-1F2DBC07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BD78DB-BEE8-44D3-A329-7F7737E5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88C79F-0315-4B8D-BFE9-559F0F11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713970-B6E6-4C22-8EAC-C5D45A9C9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4B9962-ADD9-4622-AE35-D945F1D32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59C001-A987-4B20-9BD5-76B5A2C12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F94732-62F8-44E4-A70D-9AAC5515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EF8721-8ECA-4F01-BE9E-778EE058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AD40-3B2B-4E8C-814B-B1018A7E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CCEDBF-B52F-4D87-9CB1-7EB2B866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C2F1E5-084F-4B54-A7A2-F8F83101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0C201E-B185-4FA5-A2BC-ED0EB8AE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16CE7D-9BEE-4496-8AFB-98687DE1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67DFEC-C5FD-407E-9E7F-1B137109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34D7AB-7A7E-4E08-A591-F382F8FD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44C20B-EB8C-4EB6-8E90-B25C7A02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897996-CA39-4540-B12A-0ADDFBE78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BD937A-8B80-4C78-AE01-4BF6A192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6BD49B-B892-4B3F-86DA-47D19134B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EBBD-B66E-4107-9DA5-5B014EA2C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162E3D-2FEE-4177-92C3-AD28EBD7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1A6632-1646-431D-9C8F-6C7F643F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ECAD08-0DC5-4298-8C24-31BE6ABE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6CEA49-85C8-4073-AEE3-385C914F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BBA7E9-701F-4EA1-AD2A-E55B5414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115EFC-6ED2-4BE9-913B-568E6160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495306-1696-474D-9428-D69E9842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EFECD0-59C0-41BB-BA47-F5B99651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8C3BFF-AFBB-4885-BC9C-18CB6433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422FFD-53B3-4BCB-ACEC-6D4BA9A0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3052-6FC5-4AC9-82B9-3FFBCACA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380774-C534-4616-B260-4A3FA7133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CAB215-029B-4882-B100-43E7163B6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D15AC5-6A51-449D-8924-B03F7E5E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8084EA-7E85-42B5-804F-E63FFD08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DF9AB1-E470-4B48-B4D6-82D5213A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07B35E-307E-4352-A395-9E2626C7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668116-2A42-4E81-A75B-1B3FCAA9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16D842-8501-4755-9BC0-B2FC550B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5D7274-F466-43E3-9C55-2C04F06D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174F49-E76D-40CA-9ED2-8E6398B6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16E8D-A3AF-4525-AAA3-BF40E54EF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355372-353A-4ED1-AD26-3C61B3E7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3E5C91-914A-405E-95F4-6EE96181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F2C566-EFF4-4567-BF7F-13B1F80EB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1FAB35-8477-43F2-BDAB-7996E318F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7E7E4D-6D86-4B02-B78C-54980202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A7FD44-5916-42DB-A65B-E1B7637B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A0FEAD-95AC-470C-A765-E01D4F14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57DB11-E5BC-4E85-A1F6-2D06C130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22A819-5793-4057-8B4F-57411F39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B5D370-E9E1-425A-94F9-00088131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B2EC7-4AF6-4554-A186-0FE27C63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31821D-B4F9-4F6F-998B-64AC2243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C5C195-61CE-4F9F-9B1A-5213C82F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ED84A0-77AB-48AE-8C10-86DD660C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6C0DFE-6AF0-427E-B5FB-CE4AC3D2A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6E09FE-ED13-4F17-8C67-65A6C623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815A0E-EAE2-4F0C-A697-D244BF04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D3619C-F8A9-4DE7-ABC4-E74A3DC9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AE2911-FF44-43B1-AAF7-0F87B055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E51798-6DF1-4091-9D70-BEF21C49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349A41-DDEF-49D8-9470-B9AF45BF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22A12-DD04-4822-B411-4FA80E64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6A6645-93EB-48A8-87FB-74752728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C754BD-F064-4ABE-AA32-7CAF0008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2BB6BB-7D52-486E-A55D-20EEA27D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484BBC-509E-4065-818D-5B1CD241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88A348-2662-4F43-9D28-3C547187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12F3C7-A016-4B04-A68D-2BDCAAFA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C3D6C0-16DE-426D-90A4-C4154BC9E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BFB40-7B73-459F-8C95-EF13BEBA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EA6B6-2B14-48C6-8434-E6CF7B21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D9DB-EBFB-4688-837C-6263633F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B73D2-CB37-4EBA-A471-41C5E034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C334E-2209-4FF1-B8A1-722B03CB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05511-BC15-46D8-8201-BF3B68F7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40F22-8D09-4B99-8309-EC5753EF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E26BB-5DFB-4A7A-B34F-0301AC97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6F33E-A205-418E-84D3-E0457DBE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044AA-8AA5-42EB-BBB9-CB2208283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50B83-ED61-4119-9BAC-4C3D3E21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AE66C-CB47-45C2-928F-CB5F3C8E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0A38F-6DF8-4CB5-9A41-CF51F6C1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296A-C01A-4107-B9AD-896F4B25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063A3-5807-49B1-8990-6BCDC115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5F111-4E46-48CD-8EB9-519990C2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E6DCD-B77E-445C-AA8A-9E42F9D4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BBB98-3F99-459E-B71B-9F8B3367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84C0C-8F77-4B67-925B-C4BFE212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287D7-2668-46DE-9804-B0C5AB42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D5C7F-BC35-4CE9-8E92-540A003E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11A34-EB28-412C-9487-630064286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406B4-0226-4157-8096-8B7B5793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3C1C2-4FDB-495C-9D3F-CADED161A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EA59-B239-4220-B7A0-9FDAE392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0D59B-3924-4212-9813-00F046C5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B2EB5-6501-4B76-B8FC-9D355B50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ABF7D-0C6A-4E80-BE30-9CF9307B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82627-DFE6-4D4C-A968-F153D21A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AA58D-4256-4E87-9A9C-2446701C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D6B0F-54F8-4CAA-BCC6-D11E88C5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31EF7-63FF-4D47-A9F1-C7AF63C6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3B9E8-3DB3-4516-B766-5D1D9C26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BE2FE-BEFE-45C8-A157-518A2872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19197-F9D4-4C0A-9C9D-997E994A9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D039-6DC9-45D7-9739-054D9106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3F0BB-0921-45DE-A1E0-389D3131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A7DC4-C98C-4683-8165-706602232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23F29-3A2C-4393-8BAD-B4E6F3AB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918CC-FB8C-426E-BFF1-167B6D6B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73CEA-4B14-4DFA-9870-CE9D0F08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56EA9-50FB-4F6D-ADD6-9DE71DD6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68163-D2E7-402E-B367-2388D069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5C4F6-0389-4867-8DA7-07A9D3CD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0EB08-F0F9-4645-A238-17458EED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17EBE-3436-4953-8006-22DEB215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8ABB-C4B4-405C-8356-538F50E3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BA3CA-AE85-40E7-AA99-9CB6D262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6B760-801E-4E84-B4D0-68CA3EAF5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7A8D1-82C0-4C3C-97F9-611AE415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2BC88-F000-4B8E-BF6D-F437C702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E4DD9-03AA-4676-9E63-E3F7E39D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BABC3-EABA-4DA4-8689-36FA3519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6BE4F-5833-4842-A2A8-4ED954E7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229F5-8FF4-400F-ACCD-4B76AB5D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8903F-266E-48EC-92F4-EE0009E1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E70C5-CAFA-4DC8-97E7-48A154BA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6A07-FC40-4886-8942-2CAA2C81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83776-F77A-43F0-A26B-86F35E08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0BFB3-D020-42AC-AF36-D6480260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BE2DA-A438-49EE-9DB2-3FF4A3AB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B121B-EBCB-4F78-B477-12D897C14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4C807-152D-4561-A463-4212F76D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C7E9D-0727-45C6-B945-CA76BE3E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C7EF1-C326-419E-8297-E4A6299A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EB02F-516C-4E1C-8E07-1F607958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6A030-9DFF-46E4-A6E6-27000B12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35795-9CC7-48D1-9BF4-35BED729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A573-A1A1-49F2-9C12-1DB61263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D018B-FBF1-42AE-9260-B2E673D3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AA821-2896-4DB0-865E-2A8186F2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39CCF-F166-47A6-A5E4-E21926F8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D44F5-4803-40DD-AA5E-E7E091F9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655A2-BDB8-47E0-87F8-64D6AEB3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9B3A5-2189-4059-810F-B8C591E2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0B45F-45C8-45BE-A3ED-79F097A80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DA66B-3F74-4D37-8C9B-4B968884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D5C2D-A14C-4441-9660-DF986E2E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0754D-B4B7-41B5-A2A6-BA724E51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7EBC-297C-4CEB-8E09-063C29A9B0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25ED-4CE3-43FA-B9BB-3E6F869CB3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7B47-71C5-46BE-A773-80F9B01202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39A3-EC5C-4985-A604-ECBC03E85F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39F0-F166-4E8C-AD6E-6BCC476EFC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BB00-688F-45F1-89D4-8201F67F1B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93BE-2891-438F-8106-6C54171C0F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E392-239C-4FC2-A9DE-8915910978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A212-6ACB-4B65-ABC1-B6B6A9B795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B301-8966-4A09-A521-0CD64F5E1E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644B-FEB1-458B-9212-514DDC57FC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F141-DA65-467E-9A0C-6267791E22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D771-AE64-49B7-A468-611EC59EE0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9392-C316-47DB-914B-280B85BE8A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27D2-34BA-423E-8C62-8B319E64F3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0C9E-5CC1-4BD3-983D-8715E20404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06A6-F8AD-43B6-96C9-ED068AE0F2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65E2-FD33-4A41-ABD2-C42694B64E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D447-3C0A-47D2-9065-F2151BDFA3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6FC8-E182-4AD6-8E9A-7BE751898A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4E06-4350-4B3D-A7EB-88FDB0CC7C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27E3-5046-46D0-B582-29351B1FF24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9620-0EEB-4862-B852-3D6ED97C91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D51D-665A-4B61-B6EF-2516165427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5320-77A6-4D90-A041-022B67CC00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ACB6-06D3-4D7B-B1CB-9CFD652C25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617B-A990-4584-B2D3-EC300131D2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31BC-1882-4815-969A-0FBDE649EE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2C10-F99F-469A-9597-5B99C1A01B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CE26-CF96-42AD-8907-50C3CE375F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82CF-1567-4155-997F-15D2E8AE2D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35F6-B87E-4FFA-978E-F6E6875A7E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6315-6BC0-43DB-B733-4BAB77486B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7E17-859B-4268-8462-7BC8C8AF7FF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E0C6-75C4-49A3-B992-8BED935623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D12A-7426-4C5B-9831-0FA6F6C5B7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F994-B50F-4930-BF70-824910BCAB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1B00-3E07-4999-8E53-0565A7D84E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4BBA-A5A5-4805-B80B-D1CB1588E6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4245-E2E0-4D5D-9728-D56119A0A2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9653-4F43-475F-BF7C-75618CA10B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BF2D-2E5F-4224-A45A-20263D81E7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112680" y="2657520"/>
            <a:ext cx="87519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95400" y="1409760"/>
            <a:ext cx="1714320" cy="323640"/>
          </a:xfrm>
          <a:prstGeom prst="rect">
            <a:avLst/>
          </a:prstGeom>
          <a:ln w="0">
            <a:noFill/>
          </a:ln>
        </p:spPr>
      </p:pic>
      <p:pic>
        <p:nvPicPr>
          <p:cNvPr id="1108" name="图片 2" descr=""/>
          <p:cNvPicPr/>
          <p:nvPr/>
        </p:nvPicPr>
        <p:blipFill>
          <a:blip r:embed="rId2"/>
          <a:stretch/>
        </p:blipFill>
        <p:spPr>
          <a:xfrm>
            <a:off x="95400" y="1833480"/>
            <a:ext cx="8953200" cy="319104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395280" y="1844640"/>
            <a:ext cx="360360" cy="29376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324000" y="3284640"/>
            <a:ext cx="360360" cy="29376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395280" y="4365720"/>
            <a:ext cx="36036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图片 1" descr=""/>
          <p:cNvPicPr/>
          <p:nvPr/>
        </p:nvPicPr>
        <p:blipFill>
          <a:blip r:embed="rId1"/>
          <a:stretch/>
        </p:blipFill>
        <p:spPr>
          <a:xfrm>
            <a:off x="270000" y="2025720"/>
            <a:ext cx="7522920" cy="1800000"/>
          </a:xfrm>
          <a:prstGeom prst="rect">
            <a:avLst/>
          </a:prstGeom>
          <a:ln w="0">
            <a:noFill/>
          </a:ln>
        </p:spPr>
      </p:pic>
      <p:pic>
        <p:nvPicPr>
          <p:cNvPr id="1113" name="图片 2" descr=""/>
          <p:cNvPicPr/>
          <p:nvPr/>
        </p:nvPicPr>
        <p:blipFill>
          <a:blip r:embed="rId2"/>
          <a:stretch/>
        </p:blipFill>
        <p:spPr>
          <a:xfrm>
            <a:off x="1347840" y="3963960"/>
            <a:ext cx="6753240" cy="31428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3"/>
          <a:stretch/>
        </p:blipFill>
        <p:spPr>
          <a:xfrm>
            <a:off x="468360" y="1989000"/>
            <a:ext cx="360360" cy="29376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4"/>
          <a:stretch/>
        </p:blipFill>
        <p:spPr>
          <a:xfrm>
            <a:off x="468360" y="3141720"/>
            <a:ext cx="36036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图片 1" descr=""/>
          <p:cNvPicPr/>
          <p:nvPr/>
        </p:nvPicPr>
        <p:blipFill>
          <a:blip r:embed="rId1"/>
          <a:stretch/>
        </p:blipFill>
        <p:spPr>
          <a:xfrm>
            <a:off x="704880" y="2357280"/>
            <a:ext cx="7734240" cy="214344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2"/>
          <a:stretch/>
        </p:blipFill>
        <p:spPr>
          <a:xfrm>
            <a:off x="2340000" y="2708280"/>
            <a:ext cx="1152360" cy="29376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3"/>
          <a:stretch/>
        </p:blipFill>
        <p:spPr>
          <a:xfrm>
            <a:off x="3924360" y="3056040"/>
            <a:ext cx="1008000" cy="29376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4"/>
          <a:stretch/>
        </p:blipFill>
        <p:spPr>
          <a:xfrm>
            <a:off x="1116000" y="3429000"/>
            <a:ext cx="1008000" cy="29376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5"/>
          <a:stretch/>
        </p:blipFill>
        <p:spPr>
          <a:xfrm>
            <a:off x="4767120" y="3429000"/>
            <a:ext cx="863640" cy="29376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6"/>
          <a:stretch/>
        </p:blipFill>
        <p:spPr>
          <a:xfrm>
            <a:off x="3995640" y="3789360"/>
            <a:ext cx="863640" cy="29376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7"/>
          <a:stretch/>
        </p:blipFill>
        <p:spPr>
          <a:xfrm>
            <a:off x="4292640" y="4137120"/>
            <a:ext cx="86364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3" name="图片 1" descr=""/>
          <p:cNvPicPr/>
          <p:nvPr/>
        </p:nvPicPr>
        <p:blipFill>
          <a:blip r:embed="rId1"/>
          <a:stretch/>
        </p:blipFill>
        <p:spPr>
          <a:xfrm>
            <a:off x="442800" y="1461960"/>
            <a:ext cx="8256600" cy="393408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2"/>
          <a:stretch/>
        </p:blipFill>
        <p:spPr>
          <a:xfrm>
            <a:off x="1547640" y="2158920"/>
            <a:ext cx="4537080" cy="29376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3"/>
          <a:stretch/>
        </p:blipFill>
        <p:spPr>
          <a:xfrm>
            <a:off x="1403280" y="2865600"/>
            <a:ext cx="2232000" cy="2934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4"/>
          <a:stretch/>
        </p:blipFill>
        <p:spPr>
          <a:xfrm>
            <a:off x="1332000" y="3611520"/>
            <a:ext cx="2232000" cy="29376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5"/>
          <a:stretch/>
        </p:blipFill>
        <p:spPr>
          <a:xfrm>
            <a:off x="3419640" y="4317840"/>
            <a:ext cx="2232000" cy="29376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6"/>
          <a:stretch/>
        </p:blipFill>
        <p:spPr>
          <a:xfrm>
            <a:off x="3924360" y="5038560"/>
            <a:ext cx="158436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图片 1" descr=""/>
          <p:cNvPicPr/>
          <p:nvPr/>
        </p:nvPicPr>
        <p:blipFill>
          <a:blip r:embed="rId1"/>
          <a:stretch/>
        </p:blipFill>
        <p:spPr>
          <a:xfrm>
            <a:off x="1271520" y="1409760"/>
            <a:ext cx="6600960" cy="403848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2"/>
          <a:stretch/>
        </p:blipFill>
        <p:spPr>
          <a:xfrm>
            <a:off x="2195640" y="2111400"/>
            <a:ext cx="2376360" cy="29376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3"/>
          <a:stretch/>
        </p:blipFill>
        <p:spPr>
          <a:xfrm>
            <a:off x="1763640" y="2806560"/>
            <a:ext cx="3095640" cy="29376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4"/>
          <a:stretch/>
        </p:blipFill>
        <p:spPr>
          <a:xfrm>
            <a:off x="5651640" y="2806560"/>
            <a:ext cx="1081080" cy="2937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5"/>
          <a:stretch/>
        </p:blipFill>
        <p:spPr>
          <a:xfrm>
            <a:off x="1692360" y="3525840"/>
            <a:ext cx="3456000" cy="29376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6"/>
          <a:stretch/>
        </p:blipFill>
        <p:spPr>
          <a:xfrm>
            <a:off x="2268360" y="4259160"/>
            <a:ext cx="2016360" cy="29376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7"/>
          <a:stretch/>
        </p:blipFill>
        <p:spPr>
          <a:xfrm>
            <a:off x="2347920" y="4967280"/>
            <a:ext cx="865080" cy="29376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8"/>
          <a:stretch/>
        </p:blipFill>
        <p:spPr>
          <a:xfrm>
            <a:off x="4067280" y="4967280"/>
            <a:ext cx="72072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12:47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